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FDE-5F58-4B57-8E98-C23E2B98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C0E-F496-43CA-84D4-7E0FFC6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151-66D2-4F4A-B245-E1BC3C5C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32B-4DEE-4299-94D4-C3AC7598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08F-6A92-4061-8579-41A0EDCE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D3B-CC6A-4127-A8D3-BB3B6C7A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93B-0872-4091-AAC7-8221E607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BD3-53F1-4955-97FA-55D82C8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091-AEF2-47E4-85B9-08101617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EDF-AAC2-4E35-BA67-AA9D45F8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DCC-B1F9-4DEC-8CA0-EC2E663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2ED-CDD3-4794-8E4D-DB1987D0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C6A-C5F3-4A95-9A41-DDF97249A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6 Poďte blízki, vzdial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te blízki, vzdial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om, vinou zn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žej zvesti zmier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la nádej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ísme je zdroj múdr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ú Pán dá v hoj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, čo chcú več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jeho vele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jto knihy blahá zv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ie k Ceste všetkých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mdloby, žiaľu, tráp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radosti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e Božie Slovo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ou hviezdou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žiare ktorej smieme zr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é nebo, rajský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12:37Z</dcterms:modified>
  <cp:revision>20</cp:revision>
  <dc:subject/>
  <dc:title>Je veľký náš Pán, on slávy je Kráľ Nech do všetkých strán  spev vrúcnych znie chvál.</dc:title>
</cp:coreProperties>
</file>